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492-A56E-47BB-9A69-D685FEC6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8EF-D1B6-4FB7-8FD1-A8B11A6C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184-58E2-4BF6-AE65-86F6A068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2CB-A62E-4F8B-8A64-E75CE95D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AA8A-615A-4C45-AEE3-AE984B45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53A1-C4E0-4DF5-88A6-B2DE84E4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AFA8-A6B1-4E33-BA81-3B37A970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0C98-833A-48E5-AE9B-3077F2E6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9733-2AC9-4984-A452-AB14562F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5489-8DB4-4535-A2D3-1B8A736A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8401-D5DB-4D69-A889-1C944AF3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25E-38FA-4200-9EFE-AD587FDA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662F-4272-4FAD-A1AD-8CD9CF90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A5FD-4A82-4A67-ACF9-4A1BA3AD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7FB-ABF0-484C-A78A-B51F0E56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2E62-04FC-40BC-927C-696F6CDE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F43C-F824-494D-98B6-F16ECFB2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A45-44C6-4286-B488-E81837FB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C24-065A-4E10-A1C0-77B25F79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96F-BF54-4A15-B28E-A3219148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231-7AAF-4320-AB94-DA16299E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EEA-CD23-4D4E-A59E-0B121DAB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423-BCC1-4177-B887-0DBA3B0B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5E5-2EFE-45E1-83E3-DBCCA4E3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5E42-C7FE-4D62-8CCE-C465671DA6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A29C-1C28-436D-B9C9-F2CC5AA6AD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hyperlink" Target="http://www.traktat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Engravers MT"/>
              </a:rPr>
              <a:t>СЛОЖНОЕ  ПРЕДЛОЖ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Выполнила Николаева Ю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учащаяся 9 «а»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Engravers MT"/>
              </a:rPr>
              <a:t>Школы № </a:t>
            </a:r>
            <a:r>
              <a:rPr b="1" i="1" lang="en-US" sz="2800" spc="-1" strike="noStrike">
                <a:solidFill>
                  <a:srgbClr val="000000"/>
                </a:solidFill>
                <a:latin typeface="Engravers MT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Ответ на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Сх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Сложносочиненное предлож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Сложноподчиненное предлож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Бессоюзно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stellar"/>
              </a:rPr>
              <a:t>Ресурс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ервое предложение (Он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поздали из-за сильного дождя) является простым предложением. Второе (Они опоздали, потому что шел сильный дождь)– сложноподчиненны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ыть грамотным – это нелегкая задача. Для этого нужно владеть большим объемом информации (правила, орфограммы, словарные слова, исключения)…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stellar"/>
              </a:rPr>
              <a:t>ВИДЫ  СЛОЖНЫХ  ПРЕДЛОЖЕНИЙ (СХЕ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907920"/>
            <a:ext cx="7416720" cy="115272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СЛОЖ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565360"/>
            <a:ext cx="482436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ОЮ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2565360"/>
            <a:ext cx="208908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БЕССОЮ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365720"/>
            <a:ext cx="2735280" cy="93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ЛОЖНОСОЧИН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4365720"/>
            <a:ext cx="2808360" cy="93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СЛОЖНОПОДЧИН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672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371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371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СС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2920" y="1557000"/>
            <a:ext cx="69836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ложносочиненные предложения   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такие предложения, в котор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ростые предложения могут бы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равноправными по смыслу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вязываются сочинительны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юзами ( и, а, но, однако, зат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СП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27056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ложноподчиненное предложение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это сложное предложени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стоящее из двух (или боле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частей, одна из которых подчине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другой и связывается с ней пр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омощи подчинительного союз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союзного сло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870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Немного о БСП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6964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Бессоюзные сложные предложения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это предложения, состоящие из дву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или более частей, связанных межд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собой по смыслу, интонационн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порядком расположения частей и т.д.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но без союз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РЕСУРС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astellar"/>
                <a:hlinkClick r:id="rId1"/>
              </a:rPr>
              <a:t>http://www.krugosvet.r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traktat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ttp://ru.science.wikia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5:39:46Z</dcterms:created>
  <dc:creator>студент</dc:creator>
  <dc:description/>
  <dc:language>en-US</dc:language>
  <cp:lastModifiedBy>Admin</cp:lastModifiedBy>
  <dcterms:modified xsi:type="dcterms:W3CDTF">2010-05-13T09:43:53Z</dcterms:modified>
  <cp:revision>6</cp:revision>
  <dc:subject/>
  <dc:title>СЛОЖНОЕ  ПРЕДЛОЖЕНИЕ</dc:title>
</cp:coreProperties>
</file>